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426-7642-4061-AA2E-88109A49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1D5-B25B-48EE-B28C-DBEF14F5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6B2-1BC6-4A76-A577-75F2AED8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24A-EDF8-4C0A-92FC-12AE8D1E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80C-CBFC-4DA4-85ED-A945FE6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EFC-6945-44DE-8085-E41F1EC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C90-0228-41B5-BB0E-FF05E04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42F-BD9A-4C6A-A96C-98056DF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6E6-060D-45A4-9D51-A420E628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110-4F23-4631-8A0C-AFF3EC4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C1D-787B-4D44-8F02-7EA0CB7C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534-A76D-41A4-9A62-BFFC269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30AF-3C30-4D4C-83F9-D3134CE5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4600"/>
            </a:b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olidays are a pleasant time when people gather together to celebrate.  How can we contribute to a celebration?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a holiday celebration.  We will read about what a group of animals does on Thanksgiving day.  What do you usually do on Thanksgiv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bout Chinese New Year.  Everyone in the family contributes to the celebration.  How have you contributed to your family celebra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9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 can read books when we want to learn something new.  What other ways can we learn about thing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3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week we read about many celebrations.  Thanksgiving, Chinese New Year, and birthdays are all things to celebrate.  How can we add to a celebratio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0-14T20:09:49Z</dcterms:modified>
  <cp:revision>43</cp:revision>
  <dc:subject/>
  <dc:title> Morning Warm- Up! The cat needs some water.  The dog wants a bone.  That bird lives in a birdhouse where she feels quite at home.  How do people take care of pets?</dc:title>
</cp:coreProperties>
</file>